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F1CE-90D4-41F9-BEDE-2534121CE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2F6F-34C2-4756-A7F6-78E62659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A8BD-702B-4C16-8788-119A1D4BA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4A2C-68C6-4CCA-85E9-36C188485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CD80-FFA5-4BF2-B7C6-037C8CAE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ED56-7A46-4260-AC16-7DE4702C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C800-E442-4320-8E2A-8035966B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B56B-5A24-4151-BA44-02C61F8B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5753-46E1-45D2-BDF8-C3B1BA81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DC97-EE69-484F-BD71-46C20CD8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4A80-CA1C-4AA2-80BA-4F602965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ED6A-0FC8-4571-B174-E2F9C3DA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2204-D38C-4963-9147-29064999DD5A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eather.com/glossary/w.html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My Weather Forecast for Stillwater, OK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y: Stud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urrent Weather Conditions for February 23, 2009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3"/>
                </a:solidFill>
                <a:latin typeface="Verdana"/>
              </a:rPr>
              <a:t>Temperature: 48 degre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3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73"/>
                </a:solidFill>
                <a:latin typeface="Verdana"/>
              </a:rPr>
              <a:t>-Wind chill: 42 degre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3"/>
                </a:solidFill>
                <a:latin typeface="Verdana"/>
              </a:rPr>
              <a:t>Humidity: 38%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3"/>
                </a:solidFill>
                <a:latin typeface="Verdana"/>
              </a:rPr>
              <a:t>Wind: SE 15-21 mp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3"/>
                </a:solidFill>
                <a:latin typeface="Verdana"/>
              </a:rPr>
              <a:t>Precipitation: 0%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3"/>
                </a:solidFill>
                <a:latin typeface="Verdana"/>
              </a:rPr>
              <a:t>Humidity: the amount of water vapor in the ai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3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73"/>
                </a:solidFill>
                <a:latin typeface="Verdana"/>
              </a:rPr>
              <a:t>-the more water vapor, the stickier it feels outs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3"/>
                </a:solidFill>
                <a:latin typeface="Verdana"/>
              </a:rPr>
              <a:t>Wind chill: the calculation of temperature that takes into account the wi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3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73"/>
                </a:solidFill>
                <a:latin typeface="Verdana"/>
              </a:rPr>
              <a:t>-more wind=a colder day in the winter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ttp://www.weather.com/glossary/h.htm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cc"/>
                </a:solidFill>
                <a:uFillTx/>
                <a:latin typeface="Verdana"/>
                <a:hlinkClick r:id="rId1"/>
              </a:rPr>
              <a:t>http://www.weather.com/glossary/w.html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5 Day Forecas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927000"/>
          <a:ext cx="7543800" cy="5778720"/>
        </p:xfrm>
        <a:graphic>
          <a:graphicData uri="http://schemas.openxmlformats.org/drawingml/2006/table">
            <a:tbl>
              <a:tblPr/>
              <a:tblGrid>
                <a:gridCol w="1508040"/>
                <a:gridCol w="1509840"/>
                <a:gridCol w="1508040"/>
                <a:gridCol w="1509840"/>
                <a:gridCol w="1508040"/>
              </a:tblGrid>
              <a:tr h="115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ues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a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tly Clou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ed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a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tly Clou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urs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a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solated Thunder Storm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i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a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tly Clou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t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a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tly Clou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495324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89000"/>
          </a:bodyPr>
          <a:p>
            <a:pPr marL="3052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3"/>
                </a:solidFill>
                <a:latin typeface="Verdana"/>
              </a:rPr>
              <a:t>Why is this information important to a weather forecast?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3"/>
                </a:solidFill>
                <a:latin typeface="Verdana"/>
              </a:rPr>
              <a:t>How does the weather forecast affect the local weather and climate?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08:30:45Z</dcterms:created>
  <dc:creator>Meghan Kaifes</dc:creator>
  <dc:description/>
  <dc:language>en-US</dc:language>
  <cp:lastModifiedBy>Oklahoma State University</cp:lastModifiedBy>
  <dcterms:modified xsi:type="dcterms:W3CDTF">2009-03-02T22:52:50Z</dcterms:modified>
  <cp:revision>8</cp:revision>
  <dc:subject/>
  <dc:title>My Weather Forecast for Stillwater, OK</dc:title>
</cp:coreProperties>
</file>